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D82C-E625-4B86-A637-0F1C495C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988-F7F7-44CA-BD6F-F9FCED4F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EB33-4109-46A6-8015-B2D6EF92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2D84-FC70-4D49-A9D7-8D43DB14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ADF2-D3CF-48FF-8B9E-1FC41BDA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BA95-E645-439C-BB75-E594C010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922-57A2-4E72-AA36-FCDE18D1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BBB6-4E9E-42B5-9941-67EEBD48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79C-2317-466B-A605-96417B0D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8E7F-A92A-45CD-9B15-E3471574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F90-28E7-46D4-927E-8542D30D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0E15-D29F-4EB2-BC92-B6EC7AA3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00D3-E3EF-46E8-BD10-F3020FD6F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38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e giraf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ous regard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495680" y="1143000"/>
            <a:ext cx="414972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ois girafes en Af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0866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 bigou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44960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 homme porte des bigoudi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51240" y="1600200"/>
            <a:ext cx="424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8288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 plac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67080" y="914400"/>
            <a:ext cx="4373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90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 orei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81168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e arm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79640" y="1600200"/>
            <a:ext cx="3382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990720" y="388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 plu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952880" y="609480"/>
            <a:ext cx="3210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 jolies plu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2:27:37Z</dcterms:created>
  <dc:creator>pheimerdinger</dc:creator>
  <dc:description/>
  <dc:language>en-US</dc:language>
  <cp:lastModifiedBy>pheimerdinger</cp:lastModifiedBy>
  <dcterms:modified xsi:type="dcterms:W3CDTF">2006-09-13T03:30:05Z</dcterms:modified>
  <cp:revision>2</cp:revision>
  <dc:subject/>
  <dc:title>une girafe </dc:title>
</cp:coreProperties>
</file>